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24000" y="744480"/>
            <a:ext cx="8353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4000" y="1491840"/>
            <a:ext cx="8353440" cy="13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24000" y="2959200"/>
            <a:ext cx="8353440" cy="13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744480"/>
            <a:ext cx="8353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1491840"/>
            <a:ext cx="4076280" cy="13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04400" y="1491840"/>
            <a:ext cx="4076280" cy="13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24000" y="2959200"/>
            <a:ext cx="4076280" cy="13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04400" y="2959200"/>
            <a:ext cx="4076280" cy="13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744480"/>
            <a:ext cx="8353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491840"/>
            <a:ext cx="2689560" cy="13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48560" y="1491840"/>
            <a:ext cx="2689560" cy="13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72760" y="1491840"/>
            <a:ext cx="2689560" cy="13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24000" y="2959200"/>
            <a:ext cx="2689560" cy="13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48560" y="2959200"/>
            <a:ext cx="2689560" cy="13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72760" y="2959200"/>
            <a:ext cx="2689560" cy="13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744480"/>
            <a:ext cx="8353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24000" y="1491840"/>
            <a:ext cx="8353440" cy="28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744480"/>
            <a:ext cx="8353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491840"/>
            <a:ext cx="8353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744480"/>
            <a:ext cx="8353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1491840"/>
            <a:ext cx="40762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04400" y="1491840"/>
            <a:ext cx="40762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744480"/>
            <a:ext cx="8353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24000" y="771120"/>
            <a:ext cx="8353440" cy="21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744480"/>
            <a:ext cx="8353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1491840"/>
            <a:ext cx="4076280" cy="13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4400" y="1491840"/>
            <a:ext cx="40762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24000" y="2959200"/>
            <a:ext cx="4076280" cy="13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24000" y="744480"/>
            <a:ext cx="8353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24000" y="1491840"/>
            <a:ext cx="8353440" cy="28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744480"/>
            <a:ext cx="8353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4000" y="1491840"/>
            <a:ext cx="40762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04400" y="1491840"/>
            <a:ext cx="4076280" cy="13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04400" y="2959200"/>
            <a:ext cx="4076280" cy="13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744480"/>
            <a:ext cx="8353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4000" y="1491840"/>
            <a:ext cx="4076280" cy="13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04400" y="1491840"/>
            <a:ext cx="4076280" cy="13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24000" y="2959200"/>
            <a:ext cx="8353440" cy="13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744480"/>
            <a:ext cx="8353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491840"/>
            <a:ext cx="8353440" cy="13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4000" y="2959200"/>
            <a:ext cx="8353440" cy="13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744480"/>
            <a:ext cx="8353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4000" y="1491840"/>
            <a:ext cx="4076280" cy="13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4400" y="1491840"/>
            <a:ext cx="4076280" cy="13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24000" y="2959200"/>
            <a:ext cx="4076280" cy="13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04400" y="2959200"/>
            <a:ext cx="4076280" cy="13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744480"/>
            <a:ext cx="8353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4000" y="1491840"/>
            <a:ext cx="2689560" cy="13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48560" y="1491840"/>
            <a:ext cx="2689560" cy="13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2760" y="1491840"/>
            <a:ext cx="2689560" cy="13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24000" y="2959200"/>
            <a:ext cx="2689560" cy="13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48560" y="2959200"/>
            <a:ext cx="2689560" cy="13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2760" y="2959200"/>
            <a:ext cx="2689560" cy="13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744480"/>
            <a:ext cx="8353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24000" y="1491840"/>
            <a:ext cx="8353440" cy="28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744480"/>
            <a:ext cx="8353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1491840"/>
            <a:ext cx="8353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744480"/>
            <a:ext cx="8353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1491840"/>
            <a:ext cx="40762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04400" y="1491840"/>
            <a:ext cx="40762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744480"/>
            <a:ext cx="8353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4000" y="744480"/>
            <a:ext cx="8353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24000" y="1491840"/>
            <a:ext cx="8353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24000" y="771120"/>
            <a:ext cx="8353440" cy="21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744480"/>
            <a:ext cx="8353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4000" y="1491840"/>
            <a:ext cx="4076280" cy="13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04400" y="1491840"/>
            <a:ext cx="40762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24000" y="2959200"/>
            <a:ext cx="4076280" cy="13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744480"/>
            <a:ext cx="8353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4000" y="1491840"/>
            <a:ext cx="40762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04400" y="1491840"/>
            <a:ext cx="4076280" cy="13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04400" y="2959200"/>
            <a:ext cx="4076280" cy="13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744480"/>
            <a:ext cx="8353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491840"/>
            <a:ext cx="4076280" cy="13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04400" y="1491840"/>
            <a:ext cx="4076280" cy="13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24000" y="2959200"/>
            <a:ext cx="8353440" cy="13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744480"/>
            <a:ext cx="8353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491840"/>
            <a:ext cx="8353440" cy="13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4000" y="2959200"/>
            <a:ext cx="8353440" cy="13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744480"/>
            <a:ext cx="8353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491840"/>
            <a:ext cx="4076280" cy="13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04400" y="1491840"/>
            <a:ext cx="4076280" cy="13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24000" y="2959200"/>
            <a:ext cx="4076280" cy="13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04400" y="2959200"/>
            <a:ext cx="4076280" cy="13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744480"/>
            <a:ext cx="8353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491840"/>
            <a:ext cx="2689560" cy="13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48560" y="1491840"/>
            <a:ext cx="2689560" cy="13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72760" y="1491840"/>
            <a:ext cx="2689560" cy="13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24000" y="2959200"/>
            <a:ext cx="2689560" cy="13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48560" y="2959200"/>
            <a:ext cx="2689560" cy="13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72760" y="2959200"/>
            <a:ext cx="2689560" cy="13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4000" y="744480"/>
            <a:ext cx="8353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4000" y="1491840"/>
            <a:ext cx="40762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04400" y="1491840"/>
            <a:ext cx="40762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744480"/>
            <a:ext cx="8353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24000" y="771120"/>
            <a:ext cx="8353440" cy="21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744480"/>
            <a:ext cx="8353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491840"/>
            <a:ext cx="4076280" cy="13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4400" y="1491840"/>
            <a:ext cx="40762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24000" y="2959200"/>
            <a:ext cx="4076280" cy="13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744480"/>
            <a:ext cx="8353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4000" y="1491840"/>
            <a:ext cx="40762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4400" y="1491840"/>
            <a:ext cx="4076280" cy="13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04400" y="2959200"/>
            <a:ext cx="4076280" cy="13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24000" y="744480"/>
            <a:ext cx="8353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4000" y="1491840"/>
            <a:ext cx="4076280" cy="13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4400" y="1491840"/>
            <a:ext cx="4076280" cy="13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24000" y="2959200"/>
            <a:ext cx="8353440" cy="13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771120"/>
            <a:ext cx="835344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4000" y="1491840"/>
            <a:ext cx="8353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1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2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34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51480" indent="-2055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51480" indent="-20556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51480" indent="-20556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TextBox 24"/>
          <p:cNvSpPr/>
          <p:nvPr/>
        </p:nvSpPr>
        <p:spPr>
          <a:xfrm>
            <a:off x="250920" y="4716360"/>
            <a:ext cx="29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ffffff"/>
                </a:solidFill>
                <a:latin typeface="Arial"/>
              </a:rPr>
              <a:t>www.wynnwilliams.co.nz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" name="Picture 2" descr=""/>
          <p:cNvPicPr/>
          <p:nvPr/>
        </p:nvPicPr>
        <p:blipFill>
          <a:blip r:embed="rId3"/>
          <a:stretch/>
        </p:blipFill>
        <p:spPr>
          <a:xfrm>
            <a:off x="6732720" y="268200"/>
            <a:ext cx="2162160" cy="3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Box 24"/>
          <p:cNvSpPr/>
          <p:nvPr/>
        </p:nvSpPr>
        <p:spPr>
          <a:xfrm>
            <a:off x="250920" y="4716360"/>
            <a:ext cx="29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ffffff"/>
                </a:solidFill>
                <a:latin typeface="Arial"/>
              </a:rPr>
              <a:t>www.wynnwilliams.co.nz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" name="Picture 2" descr=""/>
          <p:cNvPicPr/>
          <p:nvPr/>
        </p:nvPicPr>
        <p:blipFill>
          <a:blip r:embed="rId3"/>
          <a:stretch/>
        </p:blipFill>
        <p:spPr>
          <a:xfrm>
            <a:off x="6732720" y="268200"/>
            <a:ext cx="2162160" cy="347760"/>
          </a:xfrm>
          <a:prstGeom prst="rect">
            <a:avLst/>
          </a:prstGeom>
          <a:ln w="0">
            <a:noFill/>
          </a:ln>
        </p:spPr>
      </p:pic>
      <p:grpSp>
        <p:nvGrpSpPr>
          <p:cNvPr id="42" name="Rectangle 5"/>
          <p:cNvGrpSpPr/>
          <p:nvPr/>
        </p:nvGrpSpPr>
        <p:grpSpPr>
          <a:xfrm>
            <a:off x="0" y="0"/>
            <a:ext cx="9144000" cy="5145120"/>
            <a:chOff x="0" y="0"/>
            <a:chExt cx="9144000" cy="5145120"/>
          </a:xfrm>
        </p:grpSpPr>
        <p:pic>
          <p:nvPicPr>
            <p:cNvPr id="43" name="Rectangle 5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4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0" y="0"/>
              <a:ext cx="9144000" cy="51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5" name="TextBox 25"/>
          <p:cNvSpPr/>
          <p:nvPr/>
        </p:nvSpPr>
        <p:spPr>
          <a:xfrm>
            <a:off x="250920" y="4773600"/>
            <a:ext cx="29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ffffff"/>
                </a:solidFill>
                <a:latin typeface="Arial"/>
              </a:rPr>
              <a:t>www.wynnwilliams.co.nz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Picture 7" descr=""/>
          <p:cNvPicPr/>
          <p:nvPr/>
        </p:nvPicPr>
        <p:blipFill>
          <a:blip r:embed="rId5"/>
          <a:stretch/>
        </p:blipFill>
        <p:spPr>
          <a:xfrm>
            <a:off x="5246640" y="339840"/>
            <a:ext cx="3575160" cy="576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771120"/>
            <a:ext cx="835344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4000" y="1491840"/>
            <a:ext cx="8353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1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2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34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51480" indent="-2055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51480" indent="-20556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51480" indent="-20556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24"/>
          <p:cNvSpPr/>
          <p:nvPr/>
        </p:nvSpPr>
        <p:spPr>
          <a:xfrm>
            <a:off x="250920" y="4716360"/>
            <a:ext cx="29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ffffff"/>
                </a:solidFill>
                <a:latin typeface="Arial"/>
              </a:rPr>
              <a:t>www.wynnwilliams.co.nz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3"/>
          <a:stretch/>
        </p:blipFill>
        <p:spPr>
          <a:xfrm>
            <a:off x="6732720" y="268200"/>
            <a:ext cx="2162160" cy="347760"/>
          </a:xfrm>
          <a:prstGeom prst="rect">
            <a:avLst/>
          </a:prstGeom>
          <a:ln w="0">
            <a:noFill/>
          </a:ln>
        </p:spPr>
      </p:pic>
      <p:grpSp>
        <p:nvGrpSpPr>
          <p:cNvPr id="87" name="Rectangle 5"/>
          <p:cNvGrpSpPr/>
          <p:nvPr/>
        </p:nvGrpSpPr>
        <p:grpSpPr>
          <a:xfrm>
            <a:off x="0" y="0"/>
            <a:ext cx="9144000" cy="5145120"/>
            <a:chOff x="0" y="0"/>
            <a:chExt cx="9144000" cy="5145120"/>
          </a:xfrm>
        </p:grpSpPr>
        <p:pic>
          <p:nvPicPr>
            <p:cNvPr id="88" name="Rectangle 5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4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0" y="0"/>
              <a:ext cx="9144000" cy="51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771120"/>
            <a:ext cx="835344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324000" y="1491840"/>
            <a:ext cx="8353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1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2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34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51480" indent="-2055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51480" indent="-20556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51480" indent="-20556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Placeholder 2" descr=""/>
          <p:cNvPicPr/>
          <p:nvPr/>
        </p:nvPicPr>
        <p:blipFill>
          <a:blip r:embed="rId1"/>
          <a:stretch/>
        </p:blipFill>
        <p:spPr>
          <a:xfrm>
            <a:off x="468360" y="1131840"/>
            <a:ext cx="8280360" cy="244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8000" y="3076560"/>
            <a:ext cx="8280360" cy="503280"/>
          </a:xfrm>
          <a:prstGeom prst="rect">
            <a:avLst/>
          </a:prstGeom>
          <a:solidFill>
            <a:srgbClr val="000000">
              <a:alpha val="51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rbitration of Trust Dispu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4920" y="4011120"/>
            <a:ext cx="828036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eremy Johnson  |  Partner  |  Wynn William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771120"/>
            <a:ext cx="8353440" cy="4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1491840"/>
            <a:ext cx="83534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a9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What are trust dispute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a9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Why arbitrate trust dispute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a9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New Zealand’s reform eff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buClr>
                <a:srgbClr val="00a9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Trusts B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buClr>
                <a:srgbClr val="00a9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Arbitration Amendment B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a9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What are the opportunitie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5357880" y="1536840"/>
            <a:ext cx="335916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771120"/>
            <a:ext cx="8353440" cy="4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What are trust dispute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24000" y="1347480"/>
            <a:ext cx="83534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a9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Two type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00a9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Inter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00a9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a9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External disputes generally arbitrabl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a9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Internal disputes generally not arbitrabl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-141120" y="3363840"/>
            <a:ext cx="9288360" cy="2009880"/>
          </a:xfrm>
          <a:prstGeom prst="rect">
            <a:avLst/>
          </a:prstGeom>
          <a:ln w="19080">
            <a:solidFill>
              <a:srgbClr val="005c8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"/>
          <p:cNvPicPr/>
          <p:nvPr/>
        </p:nvPicPr>
        <p:blipFill>
          <a:blip r:embed="rId1"/>
          <a:stretch/>
        </p:blipFill>
        <p:spPr>
          <a:xfrm>
            <a:off x="4095720" y="-139680"/>
            <a:ext cx="6164280" cy="54500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771120"/>
            <a:ext cx="8353440" cy="4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Why arbitrate trust dispute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10920" y="1491840"/>
            <a:ext cx="6337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a9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Privac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425"/>
              </a:spcBef>
              <a:buClr>
                <a:srgbClr val="00a9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700" spc="-1" strike="noStrike">
                <a:solidFill>
                  <a:srgbClr val="ffffff"/>
                </a:solidFill>
                <a:latin typeface="Arial"/>
              </a:rPr>
              <a:t>Often intra-famil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425"/>
              </a:spcBef>
              <a:buClr>
                <a:srgbClr val="00a9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700" spc="-1" strike="noStrike">
                <a:solidFill>
                  <a:srgbClr val="ffffff"/>
                </a:solidFill>
                <a:latin typeface="Arial"/>
              </a:rPr>
              <a:t>Involve sensitive financial informati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a9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Experti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425"/>
              </a:spcBef>
              <a:buClr>
                <a:srgbClr val="00a9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700" spc="-1" strike="noStrike">
                <a:solidFill>
                  <a:srgbClr val="ffffff"/>
                </a:solidFill>
                <a:latin typeface="Arial"/>
              </a:rPr>
              <a:t>Complex area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425"/>
              </a:spcBef>
              <a:buClr>
                <a:srgbClr val="00a9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700" spc="-1" strike="noStrike">
                <a:solidFill>
                  <a:srgbClr val="ffffff"/>
                </a:solidFill>
                <a:latin typeface="Arial"/>
              </a:rPr>
              <a:t>Specialist decision-maker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a9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Settlor int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425"/>
              </a:spcBef>
              <a:buClr>
                <a:srgbClr val="00a9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700" spc="-1" strike="noStrike">
                <a:solidFill>
                  <a:srgbClr val="ffffff"/>
                </a:solidFill>
                <a:latin typeface="Arial"/>
              </a:rPr>
              <a:t>Already there are arbitration clauses in trust deed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a9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What about the need for precedent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2"/>
          <a:stretch/>
        </p:blipFill>
        <p:spPr>
          <a:xfrm>
            <a:off x="6732720" y="268200"/>
            <a:ext cx="216216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771120"/>
            <a:ext cx="8353440" cy="4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>
                <a:solidFill>
                  <a:srgbClr val="ffffff"/>
                </a:solidFill>
                <a:latin typeface="Arial"/>
              </a:rPr>
              <a:t>New Zealand’s reform effort – Trusts Bill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24000" y="1491840"/>
            <a:ext cx="83534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a9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ffffff"/>
                </a:solidFill>
                <a:latin typeface="Arial"/>
              </a:rPr>
              <a:t>Trusts Bil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76"/>
              </a:spcBef>
              <a:buClr>
                <a:srgbClr val="00a9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ffffff"/>
                </a:solidFill>
                <a:latin typeface="Arial"/>
              </a:rPr>
              <a:t>Currently before Parliament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76"/>
              </a:spcBef>
              <a:spcAft>
                <a:spcPts val="1199"/>
              </a:spcAft>
              <a:buClr>
                <a:srgbClr val="00a9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ffffff"/>
                </a:solidFill>
                <a:latin typeface="Arial"/>
              </a:rPr>
              <a:t>Comprehensive restatement of the law of trust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a9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ffffff"/>
                </a:solidFill>
                <a:latin typeface="Arial"/>
              </a:rPr>
              <a:t>ADR provisio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76"/>
              </a:spcBef>
              <a:buClr>
                <a:srgbClr val="00a9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ffffff"/>
                </a:solidFill>
                <a:latin typeface="Arial"/>
              </a:rPr>
              <a:t>Clauses 137-142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76"/>
              </a:spcBef>
              <a:buClr>
                <a:srgbClr val="00a9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ffffff"/>
                </a:solidFill>
                <a:latin typeface="Arial"/>
              </a:rPr>
              <a:t>Arbitrations allowed by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200240" indent="-285840">
              <a:lnSpc>
                <a:spcPct val="80000"/>
              </a:lnSpc>
              <a:spcBef>
                <a:spcPts val="374"/>
              </a:spcBef>
              <a:buClr>
                <a:srgbClr val="00a9e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ffffff"/>
                </a:solidFill>
                <a:latin typeface="Arial"/>
              </a:rPr>
              <a:t>Agreement of all part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80000"/>
              </a:lnSpc>
              <a:spcBef>
                <a:spcPts val="374"/>
              </a:spcBef>
              <a:buClr>
                <a:srgbClr val="00a9e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ffffff"/>
                </a:solidFill>
                <a:latin typeface="Arial"/>
              </a:rPr>
              <a:t>Court ord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76"/>
              </a:spcBef>
              <a:buClr>
                <a:srgbClr val="00a9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ffffff"/>
                </a:solidFill>
                <a:latin typeface="Arial"/>
              </a:rPr>
              <a:t>Disputes about the validity of the trust are excluded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7" descr=""/>
          <p:cNvPicPr/>
          <p:nvPr/>
        </p:nvPicPr>
        <p:blipFill>
          <a:blip r:embed="rId1"/>
          <a:stretch/>
        </p:blipFill>
        <p:spPr>
          <a:xfrm>
            <a:off x="6448320" y="1635120"/>
            <a:ext cx="20844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771120"/>
            <a:ext cx="8353440" cy="4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New Zealand’s reform effort – Arbitration Amendment Bi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4000" y="1707840"/>
            <a:ext cx="83534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a9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ffffff"/>
                </a:solidFill>
                <a:latin typeface="Arial"/>
              </a:rPr>
              <a:t>Arbitration Amendment Bil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76"/>
              </a:spcBef>
              <a:buClr>
                <a:srgbClr val="00a9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ffffff"/>
                </a:solidFill>
                <a:latin typeface="Arial"/>
              </a:rPr>
              <a:t>Currently before Parliament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76"/>
              </a:spcBef>
              <a:spcAft>
                <a:spcPts val="1199"/>
              </a:spcAft>
              <a:buClr>
                <a:srgbClr val="00a9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ffffff"/>
                </a:solidFill>
                <a:latin typeface="Arial"/>
              </a:rPr>
              <a:t>Focused on changes to the Arbitration Act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a9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ffffff"/>
                </a:solidFill>
                <a:latin typeface="Arial"/>
              </a:rPr>
              <a:t>Trust provision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76"/>
              </a:spcBef>
              <a:buClr>
                <a:srgbClr val="00a9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ffffff"/>
                </a:solidFill>
                <a:latin typeface="Arial"/>
              </a:rPr>
              <a:t>Validate arbitration clauses in trust deed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76"/>
              </a:spcBef>
              <a:buClr>
                <a:srgbClr val="00a9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ffffff"/>
                </a:solidFill>
                <a:latin typeface="Arial"/>
              </a:rPr>
              <a:t>Give arbitrators the power to appoint representatives for minor, unborn and unascertained beneficiari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76"/>
              </a:spcBef>
              <a:buClr>
                <a:srgbClr val="00a9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ffffff"/>
                </a:solidFill>
                <a:latin typeface="Arial"/>
              </a:rPr>
              <a:t>Proposed amendment will also allow ad hoc arbitrations of trust disput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" descr=""/>
          <p:cNvPicPr/>
          <p:nvPr/>
        </p:nvPicPr>
        <p:blipFill>
          <a:blip r:embed="rId1"/>
          <a:stretch/>
        </p:blipFill>
        <p:spPr>
          <a:xfrm>
            <a:off x="6168960" y="-165240"/>
            <a:ext cx="3299040" cy="56214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771120"/>
            <a:ext cx="8353440" cy="4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What are the opportunitie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3640" y="1491840"/>
            <a:ext cx="58323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a9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For New Zealand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8240" indent="-329040">
              <a:spcBef>
                <a:spcPts val="451"/>
              </a:spcBef>
              <a:buClr>
                <a:srgbClr val="00a9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A more attractive jurisdiction for trusts to be ba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68240" indent="-329040">
              <a:spcBef>
                <a:spcPts val="451"/>
              </a:spcBef>
              <a:spcAft>
                <a:spcPts val="601"/>
              </a:spcAft>
              <a:buClr>
                <a:srgbClr val="00a9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Key is ensuring the governing law of the trust is New Zealand la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a9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For arbitrator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8240" indent="-329040">
              <a:spcBef>
                <a:spcPts val="451"/>
              </a:spcBef>
              <a:buClr>
                <a:srgbClr val="00a9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New field of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68240" indent="-329040">
              <a:spcBef>
                <a:spcPts val="451"/>
              </a:spcBef>
              <a:buClr>
                <a:srgbClr val="00a9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Over 200,000 trusts in New Zealand - and a large number of dispu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682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2"/>
          <a:stretch/>
        </p:blipFill>
        <p:spPr>
          <a:xfrm>
            <a:off x="6732720" y="271440"/>
            <a:ext cx="216504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-612720" y="1492200"/>
            <a:ext cx="10872720" cy="28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9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771120"/>
            <a:ext cx="8353440" cy="4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400" spc="-1" strike="noStrike">
                <a:solidFill>
                  <a:srgbClr val="ffffff"/>
                </a:solidFill>
                <a:latin typeface="Arial"/>
              </a:rPr>
              <a:t>Jeremy Johnson  |  Partner  |  Wynn Willia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4000" y="1779120"/>
            <a:ext cx="83534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400" spc="-1" strike="noStrike">
                <a:solidFill>
                  <a:srgbClr val="00a9e0"/>
                </a:solidFill>
                <a:latin typeface="Arial"/>
              </a:rPr>
              <a:t>e</a:t>
            </a:r>
            <a:r>
              <a:rPr b="1" lang="en-SG" sz="2400" spc="-1" strike="noStrike">
                <a:solidFill>
                  <a:srgbClr val="005c84"/>
                </a:solidFill>
                <a:latin typeface="Arial"/>
              </a:rPr>
              <a:t>: jeremy.johnson@wynnwilliams.co.nz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400" spc="-1" strike="noStrike">
                <a:solidFill>
                  <a:srgbClr val="00a9e0"/>
                </a:solidFill>
                <a:latin typeface="Arial"/>
              </a:rPr>
              <a:t>t</a:t>
            </a:r>
            <a:r>
              <a:rPr b="1" lang="en-SG" sz="2400" spc="-1" strike="noStrike">
                <a:solidFill>
                  <a:srgbClr val="005c84"/>
                </a:solidFill>
                <a:latin typeface="Arial"/>
              </a:rPr>
              <a:t>:</a:t>
            </a:r>
            <a:r>
              <a:rPr b="1" lang="en-S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SG" sz="2400" spc="-1" strike="noStrike">
                <a:solidFill>
                  <a:srgbClr val="005c84"/>
                </a:solidFill>
                <a:latin typeface="Arial"/>
              </a:rPr>
              <a:t>(+64) 9 300 2615 or (+64) 3 379 762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400" spc="-1" strike="noStrike">
                <a:solidFill>
                  <a:srgbClr val="00a9e0"/>
                </a:solidFill>
                <a:latin typeface="Arial"/>
              </a:rPr>
              <a:t>m</a:t>
            </a:r>
            <a:r>
              <a:rPr b="1" lang="en-SG" sz="2400" spc="-1" strike="noStrike">
                <a:solidFill>
                  <a:srgbClr val="005c84"/>
                </a:solidFill>
                <a:latin typeface="Arial"/>
              </a:rPr>
              <a:t>: (+64) 27 418 165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4" descr="Related image"/>
          <p:cNvPicPr/>
          <p:nvPr/>
        </p:nvPicPr>
        <p:blipFill>
          <a:blip r:embed="rId1"/>
          <a:stretch/>
        </p:blipFill>
        <p:spPr>
          <a:xfrm>
            <a:off x="4384800" y="2644920"/>
            <a:ext cx="439416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02:39:22Z</dcterms:created>
  <dc:creator>Hannah Doney</dc:creator>
  <dc:description/>
  <dc:language>en-US</dc:language>
  <cp:lastModifiedBy>Natalie Allen</cp:lastModifiedBy>
  <dcterms:modified xsi:type="dcterms:W3CDTF">2018-04-15T23:17:58Z</dcterms:modified>
  <cp:revision>65</cp:revision>
  <dc:subject/>
  <dc:title>PowerPoint Presentation</dc:title>
</cp:coreProperties>
</file>