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9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0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11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C4DB-F561-4B34-9973-8B5C75010913}" type="slidenum">
              <a:rPr b="0" lang="en-N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4E0F-5852-4409-9123-D1C857D9CE9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8D0F-1B19-4322-A48F-5293903C814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E24B-727A-422F-B2EF-D5B77DDD7CE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BD98-0C2D-4070-89E9-1CB7DA4F868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D9FD-F2E9-4F34-8AFF-22D81FA179D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2288-13DF-4A31-91D7-669A692027B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FD38-76CF-4CF5-9A5C-5830F6C80C9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4FC-1B47-437B-B4BB-CB41B9FC3766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3A1B-9653-4A95-B3D4-5C222ACF174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9CE6-B1BF-4503-B3E8-01B634C2B67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6513-67A5-45D8-8173-CED65E2E18A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C9E-CC7D-4074-97D1-E11D3B69756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C450-A9C7-48E1-ABAF-E4A5AF5B1E5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5963-CBA3-4020-9BEA-E9AE26990F6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8077-BF85-4F6C-9081-6B8CF82EEAC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06E8-D561-493A-987B-DAC59BAAC0C2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978B-64C4-425A-A109-858E970E5E5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7A28-F0DE-4BC1-A739-EFC6DC1AD71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318D-D6D7-4D91-8106-F34E369F077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CB8-1B3D-47C3-A2EE-C75E84CD0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2A5-514A-4803-84B1-93821AD4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532-BB6D-4419-A890-98CD31FE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2D9F-B8E8-4929-A09A-D348544D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9B0D8-EBD9-4A1B-A5BB-BCF21BF721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5F70B-B911-4240-90FB-199501D089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657258-3A7C-473B-9D26-3DFDB8E934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32702-2720-4699-86EC-F90465E93E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0AD9E-FFE7-4761-BDF4-A36389512E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0FEAE-7A44-4F14-B007-CADDEBCDBE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0BA9F1-992C-47E4-A40E-17C0C8043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D4F-5367-45CD-B635-5CC1BE91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54D9A-3A27-4416-B188-31D366D6F3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8E267-D730-4077-BBBF-B78B7BD895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320D9-E59B-47BE-A889-1206C80F0D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60503-F07C-448A-8376-ECE2252691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B0C0A-4C0C-4061-BC14-A3A4AFA92C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F25-8145-458F-8F62-F2256BB6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AF4F-9F4A-4C4D-9F02-8E8ED583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E10C2-821C-4E99-AF25-B3035BF9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E850-5799-4C29-B084-AADD0222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430C7A-0247-46C6-A07F-FCBA29CF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65CDC0-19D9-4B01-B004-FB54F759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35A12-D1A2-47C4-801B-2CF9F873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AFDC6-A683-4C8C-A9EC-AB2047CF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9A44A-2878-48E2-BCC3-C2E0EF28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2C6C6-8192-4F24-BEBE-E3FD089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882058-18B9-40C1-8607-F1DBE523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EB61D-D74D-4A34-939E-E20B35B7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401F92-54B7-4B74-BB19-630029FF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7D408-7CE0-44D5-823B-A9005C77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C70A-7BA4-40A2-982D-7F07D607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AF71C-4C3F-4588-B41D-6B6A700A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2FB-789F-4C2A-B3D4-E9A91A07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680B-F869-4C79-87BA-04A503CA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0A7F-C7CD-46AF-9AA1-87D8C849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2AD3-32A1-4517-9B4F-32A0886BCD9C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2"/>
          <a:srcRect l="0" t="0" r="0" b="35365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9680" y="333360"/>
            <a:ext cx="71233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744c9e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1280" y="1197000"/>
            <a:ext cx="7927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indent="103714560">
              <a:spcBef>
                <a:spcPts val="751"/>
              </a:spcBef>
              <a:buClr>
                <a:srgbClr val="744c9e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47640" indent="-287280">
              <a:spcBef>
                <a:spcPts val="751"/>
              </a:spcBef>
              <a:buClr>
                <a:srgbClr val="744c9e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934920" indent="-250560">
              <a:spcBef>
                <a:spcPts val="751"/>
              </a:spcBef>
              <a:buClr>
                <a:srgbClr val="744c9e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228600">
              <a:spcBef>
                <a:spcPts val="751"/>
              </a:spcBef>
              <a:buClr>
                <a:srgbClr val="744c9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-12603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7C515-6D0A-45BB-ACA7-0D6C7E21D8C0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3"/>
          <a:stretch/>
        </p:blipFill>
        <p:spPr>
          <a:xfrm>
            <a:off x="6858000" y="6103800"/>
            <a:ext cx="2179800" cy="62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rcRect l="0" t="24269" r="0" b="16698"/>
          <a:stretch/>
        </p:blipFill>
        <p:spPr>
          <a:xfrm>
            <a:off x="0" y="1827360"/>
            <a:ext cx="9144000" cy="5030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18960" y="270000"/>
            <a:ext cx="3530880" cy="1015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2"/>
          <a:srcRect l="0" t="0" r="0" b="35365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1"/>
          <p:cNvSpPr/>
          <p:nvPr/>
        </p:nvSpPr>
        <p:spPr>
          <a:xfrm>
            <a:off x="4572000" y="137484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3"/>
          <a:stretch/>
        </p:blipFill>
        <p:spPr>
          <a:xfrm>
            <a:off x="6858000" y="6103800"/>
            <a:ext cx="2179800" cy="625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9" descr=""/>
          <p:cNvPicPr/>
          <p:nvPr/>
        </p:nvPicPr>
        <p:blipFill>
          <a:blip r:embed="rId2"/>
          <a:srcRect l="0" t="0" r="0" b="35365"/>
          <a:stretch/>
        </p:blipFill>
        <p:spPr>
          <a:xfrm>
            <a:off x="0" y="947880"/>
            <a:ext cx="9144000" cy="5910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" descr=""/>
          <p:cNvPicPr/>
          <p:nvPr/>
        </p:nvPicPr>
        <p:blipFill>
          <a:blip r:embed="rId3"/>
          <a:stretch/>
        </p:blipFill>
        <p:spPr>
          <a:xfrm>
            <a:off x="6858000" y="6103800"/>
            <a:ext cx="2179800" cy="6256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9680" y="333360"/>
            <a:ext cx="71233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744c9e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41280" y="1197000"/>
            <a:ext cx="7927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indent="103714560">
              <a:spcBef>
                <a:spcPts val="751"/>
              </a:spcBef>
              <a:buClr>
                <a:srgbClr val="744c9e"/>
              </a:buClr>
              <a:buFont typeface="Symbol" charset="2"/>
              <a:buChar char="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647640" indent="-287280">
              <a:spcBef>
                <a:spcPts val="751"/>
              </a:spcBef>
              <a:buClr>
                <a:srgbClr val="744c9e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934920" indent="-250560">
              <a:spcBef>
                <a:spcPts val="751"/>
              </a:spcBef>
              <a:buClr>
                <a:srgbClr val="744c9e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187280" indent="-228600">
              <a:spcBef>
                <a:spcPts val="751"/>
              </a:spcBef>
              <a:buClr>
                <a:srgbClr val="744c9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18728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18728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8"/>
          </p:nvPr>
        </p:nvSpPr>
        <p:spPr>
          <a:xfrm>
            <a:off x="-126036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7C5C3-860C-4E5E-95F4-E2FC91034652}" type="slidenum">
              <a:rPr b="0" lang="en-N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"/>
          <p:cNvSpPr/>
          <p:nvPr/>
        </p:nvSpPr>
        <p:spPr>
          <a:xfrm>
            <a:off x="0" y="4614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Gotham Book"/>
              </a:rPr>
              <a:t>Jeremy Johns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0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  <a:ea typeface="Gotham Book"/>
              </a:rPr>
              <a:t>Wynn Willi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3059280" y="1125360"/>
            <a:ext cx="3384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0" y="5749920"/>
            <a:ext cx="392436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092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Gotham Book"/>
              </a:rPr>
              <a:t>September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092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092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5092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3"/>
          <p:cNvSpPr/>
          <p:nvPr/>
        </p:nvSpPr>
        <p:spPr>
          <a:xfrm>
            <a:off x="-108000" y="6524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 baseline="30000">
                <a:solidFill>
                  <a:srgbClr val="1f497d"/>
                </a:solidFill>
                <a:latin typeface="Calibri"/>
              </a:rPr>
              <a:t>Copyright reserved: This presentation or any portion thereof may not be reproduced without the express permission of NZLS CLE L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0" y="2576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Calibri"/>
                <a:ea typeface="Gotham Bold"/>
              </a:rPr>
              <a:t>Keeping the farm in the family: Issues in Succession Plan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what if the JFT is long-stand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Long-standing trusts not as vulnerable but still vuln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Economic disparity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182 Family Proceedings Act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onstructive trust clai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s182 cla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2640" indent="-3416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pply to nuptial settl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640" indent="-3416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layton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now the leading case – not the “last word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3416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s the trust a nuptial settlement?  A generous approach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81080" indent="-3416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f so how should it be varied?  Focus on reasonable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2640" indent="-3416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Older trusts might be nuptial settlements – especially if language is of spou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640" indent="-3416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lso be wary of trusts that automatically make spouses beneficia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640" indent="-3416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Wide class of beneficiaries can help minimise the risk of these clai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2640" indent="-341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constructive trust clai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wo typ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rasitic claims –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lark v Cla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irect claims –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Lankow v R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ases show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ourts look through legal structures to provide “justic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ourts can only do that when parties create the opportun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hese claims can be minimis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mplement the agreed structure – minutes, resolution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Make transactions arms’ leng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ection 21 agreemen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Companie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mpany structures are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ost benefit arises where agreement between the fami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Companie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rusts and compan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33480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What if the Jervois family went into JF Co and the shares were held by JF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58760" indent="-3348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ssues regarding debt and limitation the s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8760" indent="-3348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Harder for discretionary beneficiaries of JFT to challenge trustee decisions – eg harder to challenge decision to enter into below-market l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8760" indent="-3348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44 claim still available to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8760" indent="-3348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44D-F claims – can be harder depending on the extent of control exercise –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JR v RW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8760" indent="-3348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182 claims still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58760" indent="-3348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onstructive trust claims not eliminated – just the target is differ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334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8240" indent="-334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Companie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When can a company be useful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f agreement as to share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What if M, N &amp; O agreed that M got 70% of shares and they got the res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35244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event FPA clai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35244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Ensuring the farm is economically vi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35244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Help protect against PRA claims – if shares given proper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an also be used to depress value of claims by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71760" indent="-35244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Stringent pre-emptive rights with discount value of sha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Beware of s174 claims though they are only open to the legal owner of sha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dded complexity = added 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Section 21 Agre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Fail saf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14160" indent="-30276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mmonly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58320" indent="-30276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urest way to reduce the risk of claims under PRA and generally at l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58320" indent="-30276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Jurisdiction to set aside when so unreasonable as to give rise to a serious injus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58320" indent="-30276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ontextual question and courts look 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Provisions of the agre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Length of time since agreement m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ether unfair at time it was ma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Whether unfair due to changes si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he intentions of the parties to achieve certain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nything else the court considers relev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351440" indent="-302760">
              <a:spcBef>
                <a:spcPts val="400"/>
              </a:spcBef>
              <a:buClr>
                <a:srgbClr val="744c9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14160" indent="-30276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4160" indent="-302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Section 21 Agre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Fail saf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Principle of substance over form and arms’ length transaction – don’t deprive parties of value they contrib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w could you recognise P’s contribu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Lump sum payment on separation (linked to years on far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ransitional income on s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Greater share of actual relationship proper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Review and update regul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al with other claims at same time – either separately or togethe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What does the example of the Jervois family tell u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No structure is per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tructures endure when the purpose is clear to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ompanies can be usef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tructures need to be implemented and maintain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Generally look to arms’ length transactions that give reasonable retur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400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Succession is impor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Primogeniture had its economic ration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Question of priorities and trade-off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77240" indent="-155160">
              <a:spcBef>
                <a:spcPts val="499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Retention of assets vs “equity” between family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Key princip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A principled lack of principl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777240" indent="-155160">
              <a:spcBef>
                <a:spcPts val="499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ry equity – it works!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77240" indent="-155160">
              <a:spcBef>
                <a:spcPts val="499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ubstance over form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No structure is perfect – there are pitfalls to being too clever by hal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tructuring is not about a one-off transaction but long-term condu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799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ub bull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5080" indent="-19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rusts are extremely comm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ax avoidance and testamentary fre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Now more testamentary freedom and to minimise claims from spouses/de facto partn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ore vulnerable than they used to 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The Jervois Family – a case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Jervois farm owned for over 80 years.  Now debt fe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r &amp; Mrs J have three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arm only economically viable if debt less than 40% of current capital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, the middle child, wants to farm with de facto partner 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Mr &amp; Mrs J settle farm into the JFT – ASP and a loan of $2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bt is not forgiven to preserve the val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loans and limitation peri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ortance obvio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f no interest or principal repayments and “on demand” then from date of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on demand in writing” would make it run from the date of adv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Get maximum benefit from secu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If unsecured Mr &amp; Mrs J would rank alongside P as unsecured credi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rry Schwass Company Ltd v Mars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loans and the Family Protection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What about the other childre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he loan is an asset of the estate – if unforgiven then other siblings could bring FPA clai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f the loan is forgiven – even on death – then greater risk of a claim by 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What is the risk from an FPA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loans and the Family Protection A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albot v Talb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wo daughters and a s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on purchased ½ of farm during life and other ½ via wi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rice was $1.55m but loan forgiven so only $400k le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on also received $4m from est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Other assets - $2.2m – split between daugh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One daughter brought FPA clai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laim failed – testamentary intent was for son to have farm and general even handedness during life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within tru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200" indent="-32760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What about including N &amp; O as discretionary beneficiaries of the JFT to reduce risk of an FPA claim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4200" indent="-32760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Risk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36440" indent="-3276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amily resen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36440" indent="-3276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hallenge to trustee decis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4200" indent="-32760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ssues around deed draft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36440" indent="-3276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owers of investment – should they be altered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36440" indent="-3276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hould M be “primary” beneficiary? Or should there be a “purpose” to the trust that affects interest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4200" indent="-32760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Clever drafting can’t avoid the critical issue – M needs a greater share of family assets than N &amp; O to retain far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36440" indent="-32760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64200" indent="-327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3920" y="333360"/>
            <a:ext cx="7129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44c9e"/>
                </a:solidFill>
                <a:latin typeface="Calibri"/>
                <a:ea typeface="Arial"/>
              </a:rPr>
              <a:t>Trusts – issues and ris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36600" y="1197000"/>
            <a:ext cx="7932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44c9e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Arial"/>
              </a:rPr>
              <a:t>Vulnerabilities – dispositions into trusts and the P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isposition into trusts creates PRA ris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eaven v Bea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amily farm – five child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1/3 sold to son 2/3 into tru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on transferred 1/3 into trust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4560" indent="-352440">
              <a:spcBef>
                <a:spcPts val="499"/>
              </a:spcBef>
              <a:buClr>
                <a:srgbClr val="744c9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S44 claim narrowly defeated – s44C claim succ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buClr>
                <a:srgbClr val="744c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iming and existing interests critical.  S44 can apply to property not currently but which might be relationship prop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4240" indent="-35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7T04:46:52Z</dcterms:created>
  <dc:creator>Silalelei Koonwaiyou</dc:creator>
  <dc:description/>
  <dc:language>en-US</dc:language>
  <cp:lastModifiedBy>Jeremy Johnson</cp:lastModifiedBy>
  <cp:lastPrinted>2015-03-31T22:25:19Z</cp:lastPrinted>
  <dcterms:modified xsi:type="dcterms:W3CDTF">2017-08-27T03:40:22Z</dcterms:modified>
  <cp:revision>13</cp:revision>
  <dc:subject/>
  <dc:title>PowerPoint Presentation</dc:title>
</cp:coreProperties>
</file>