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12193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F4F1-961E-4BB6-B776-3C1E7025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AB1-A28F-4482-9B59-98DA8B9F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BD5-694B-4916-8EA9-B72650B69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61A-A766-4B46-9FCD-28252791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E30-E10A-43EF-8ED1-8DEA8608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E8ED-42F8-4B06-85EE-5FAFF5F5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543D-D293-4848-967E-00BFED7B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F9A-B653-44C5-AF7D-5C7BFD6E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5C9-D05E-4009-A1B4-930A65F5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1CA3-4909-4D8F-8EDF-CE4A073E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7EAE-1EC8-4B15-962B-590D316A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22F1-C4F0-4869-A415-DC874CB0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  <a:defRPr b="0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  <a:defRPr b="0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fld id="{0E69D2A3-9107-47B1-A8CF-3D22E9A3E728}" type="slidenum">
              <a:rPr b="0" lang="en-US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ver 16.9 copy.jpg"/>
          <p:cNvPicPr/>
          <p:nvPr/>
        </p:nvPicPr>
        <p:blipFill>
          <a:blip r:embed="rId2"/>
          <a:stretch/>
        </p:blipFill>
        <p:spPr>
          <a:xfrm>
            <a:off x="-68400" y="-87480"/>
            <a:ext cx="12309480" cy="7032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Inside slide 1.jpg"/>
          <p:cNvPicPr/>
          <p:nvPr/>
        </p:nvPicPr>
        <p:blipFill>
          <a:blip r:embed="rId2"/>
          <a:stretch/>
        </p:blipFill>
        <p:spPr>
          <a:xfrm>
            <a:off x="-49320" y="-76320"/>
            <a:ext cx="12269880" cy="7010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-49320" y="-76320"/>
            <a:ext cx="12269880" cy="70106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2680" indent="-382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1" marL="830520" indent="-31860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marL="1278720" indent="-25452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3" marL="1790640" indent="-254520"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4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5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6" marL="2302920" indent="-254880">
              <a:spcBef>
                <a:spcPts val="1049"/>
              </a:spcBef>
              <a:buClr>
                <a:srgbClr val="000000"/>
              </a:buClr>
              <a:buFont typeface="Arial"/>
              <a:buChar char="»"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3017520"/>
            <a:ext cx="1218564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Calibri"/>
              </a:rPr>
              <a:t>Arbitration Skills Intens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3200" spc="-1" strike="noStrike">
                <a:solidFill>
                  <a:srgbClr val="1f1f1f"/>
                </a:solidFill>
                <a:latin typeface="Calibri"/>
              </a:rPr>
              <a:t>September 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3200" spc="-1" strike="noStrike">
                <a:solidFill>
                  <a:srgbClr val="1f1f1f"/>
                </a:solidFill>
                <a:latin typeface="Calibri"/>
              </a:rPr>
              <a:t>Session [x]: Commencement of arbi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3200" spc="-1" strike="noStrike">
                <a:solidFill>
                  <a:srgbClr val="1f1f1f"/>
                </a:solidFill>
                <a:latin typeface="Calibri"/>
              </a:rPr>
              <a:t>Jeremy Joh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8664041D-CF07-416F-8457-7209202EAE32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4"/>
          <p:cNvSpPr/>
          <p:nvPr/>
        </p:nvSpPr>
        <p:spPr>
          <a:xfrm>
            <a:off x="520560" y="425520"/>
            <a:ext cx="10688760" cy="81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Interim measures – Article 17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signed to protect assets and maintain the status qu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eliminary orders are ex-parte interim measures but are not enforceable by the cou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est for interim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text dependent – what measure are you af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imilar to prevailing rules for injunctions and other examples of interim reli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afe Kids in Daily Supervision Ltd v McNeil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HC Auckland, CIV-2010-404-1696, 14 April 2010) 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olid Energy New Zealand Ltd v HWE Mining Pty Lt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HC Hamilton, CIV 2010-419-904, 5 August 201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igh Court can also provide assistance – but issues with ex-parte ap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stitutional rules can also provide for the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4A01EAAA-4711-4FAB-A42F-DA2EFCE6D7BA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520560" y="425520"/>
            <a:ext cx="1068876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Emergency arbitrato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cent inno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llow for protective orders and interim measures to be granted prior to appointment of a tribu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ust be provided for either in arbitration agreement or any institu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cent amendments to the Arbitration Act 1996 now make awards and orders enforceable by the cou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FCE35F0C-642B-48C1-A617-5E715570C4C4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520560" y="425520"/>
            <a:ext cx="1068876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e aware of when commencement occurs and pre-conditions – if necessary explicitly rule on jurisdi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s a matter of good practice consider, even if only informally, the validity of the arbitration agre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e mindful of the intricacies with interim measures and protective or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" y="3017520"/>
            <a:ext cx="12185640" cy="24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3600" spc="-1" strike="noStrike">
                <a:solidFill>
                  <a:srgbClr val="1f1f1f"/>
                </a:solidFill>
                <a:latin typeface="Calibri"/>
              </a:rPr>
              <a:t>Arbitration Skills Intens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3200" spc="-1" strike="noStrike">
                <a:solidFill>
                  <a:srgbClr val="1f1f1f"/>
                </a:solidFill>
                <a:latin typeface="Calibri"/>
              </a:rPr>
              <a:t>September 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3200" spc="-1" strike="noStrike">
                <a:solidFill>
                  <a:srgbClr val="1f1f1f"/>
                </a:solidFill>
                <a:latin typeface="Calibri"/>
              </a:rPr>
              <a:t>Session [x]: The role and powers of the Court in arbi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3200" spc="-1" strike="noStrike">
                <a:solidFill>
                  <a:srgbClr val="1f1f1f"/>
                </a:solidFill>
                <a:latin typeface="Calibri"/>
              </a:rPr>
              <a:t>Jeremy Joh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A29B14C5-FA23-489E-A68F-7754C7705C62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520560" y="425520"/>
            <a:ext cx="1068876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 court both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ppor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pervi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General principle is that of restraint and encour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pports b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ndatory stay of procee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ssists in gathering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cognition and enfor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termination of preliminary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upervises throug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ppe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pplications to set as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fusal of enfor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1104082-9E92-44C8-97EC-AD93059D3F53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520560" y="425520"/>
            <a:ext cx="10688760" cy="59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General principle – judicial restraint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rticle 5 of Schedule 1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tabLst>
                <a:tab algn="l" pos="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tabLst>
                <a:tab algn="l" pos="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Extent of court interven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tabLst>
                <a:tab algn="l" pos="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In matters governed by this schedule, no court shall intervene except where </a:t>
            </a: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so provided in this schedu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Zermalt Holdings v Nu-Life Upholstery Repair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[1985] 2 EGLR 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rnell Corrao Associates Inc v Sensation Yachts Lt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2000) 15 PRNZ 608 (H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4243AB2-FBD9-4C22-9326-4C4623507A2E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520560" y="425520"/>
            <a:ext cx="106887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uppo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ndatory stay of court procee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lause 8 of Schedul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Zurich Australian Insurance v Cognition Educ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[2014] NZSC 188 – question of whether is a bona fide disp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ssociated disputes not covered by agreement may also be stayed - </a:t>
            </a: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Danone Asia Pacific Holdings Pte Ltd v Fonterra Co-operative Group Ltd 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[2014] NZCA 53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Anti-suit injunctions – </a:t>
            </a: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American Speciality Lines Insurance Co v Abbot Laboratories 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[2002] EWHC 2714 (Com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Anti-arbitration injunctions – </a:t>
            </a: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Carter Holt Harvey Ltd v Genesis Power Ltd 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[2006] 3 NZLR 794 (H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tabLst>
                <a:tab algn="l" pos="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tabLst>
                <a:tab algn="l" pos="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D5794454-B132-491F-9A02-53483203D0CF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4"/>
          <p:cNvSpPr/>
          <p:nvPr/>
        </p:nvSpPr>
        <p:spPr>
          <a:xfrm>
            <a:off x="520560" y="425520"/>
            <a:ext cx="1068876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Suppo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ssistance in gathering evi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rticle 27 of Schedul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quest must be by tribunal or a party with approval of the tribu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mplied that other party must be informed of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 witness may be subpoenaed or summonsed to give evidence or produce doc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itness may also be ordered to submit to an examination on oath or affi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 Dickins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[1992] 2 NZLR 43 (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urts will assist overseas tribunals -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alian Deepwater Developer Ltd v Dybdah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 [2015] 3 NZLR 2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F611444-14CD-4261-991B-57314328CA06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520560" y="425520"/>
            <a:ext cx="1068876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Suppo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cognition and enfor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cognition – a party apply to have the award recognised to defeat a party attempting to pursue matters already determine in an a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cognition and enforcement – having the award entered as a judgment to allow for enforcement s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rticle 25 of Schedule 1 sets out entitlement to recognition and enforceme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n either a bring claim based on the award or seek entry as a judg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43563B02-2DDA-45C9-8EC2-438C6744CB61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520560" y="425520"/>
            <a:ext cx="1068876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Suppo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etermination of preliminary ques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lause 4 of Schedul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ppears to have never been us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t just preliminary questions but can be used for issues arising during the course of the arbi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sent is required for applications – either from the tribunal or from every other pa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f tribunal consents then High Court may only hear the application if it is satisfied that determining the question might produce substantial savings in costs to the pa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NZ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2D0EEB1-AF6C-4EF2-B5D7-7A7E00C8696C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4"/>
          <p:cNvSpPr/>
          <p:nvPr/>
        </p:nvSpPr>
        <p:spPr>
          <a:xfrm>
            <a:off x="520560" y="425520"/>
            <a:ext cx="1068876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Supervi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ppe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rticle 5 of Schedul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ight of appeal for domestic arbitrations unless exclu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 right for international arbitrations unless agreed 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ree month time lim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rovision for appeals within institutional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ppeals may only be brough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ith consent of all parties; 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ith leave of the cou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ust arise out of the a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A70E1B73-5BCD-4039-B9AE-55004A5159B8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520560" y="425520"/>
            <a:ext cx="106887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Supervi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hen is leave grant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Statutory criteria - 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“determination of the question of law concerned could substantially affect the rights of 1 or more parties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Factors identified in </a:t>
            </a: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Gold &amp; Resources Developments Ltd v Doug Hood Ltd 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[2000] 3 NZLR 3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2390760" indent="-857160" algn="just">
              <a:buClr>
                <a:srgbClr val="000000"/>
              </a:buClr>
              <a:buFont typeface="Arial"/>
              <a:buChar char="•"/>
              <a:tabLst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Strength of the challenge/nature of the point of la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2390760" indent="-857160" algn="just">
              <a:buClr>
                <a:srgbClr val="000000"/>
              </a:buClr>
              <a:buFont typeface="Arial"/>
              <a:buChar char="•"/>
              <a:tabLst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How the question arose before the arbit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2390760" indent="-857160" algn="just">
              <a:buClr>
                <a:srgbClr val="000000"/>
              </a:buClr>
              <a:buFont typeface="Arial"/>
              <a:buChar char="•"/>
              <a:tabLst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Qualifications of the arbit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2390760" indent="-857160" algn="just">
              <a:buClr>
                <a:srgbClr val="000000"/>
              </a:buClr>
              <a:buFont typeface="Arial"/>
              <a:buChar char="•"/>
              <a:tabLst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Importance of the dispute to the par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2390760" indent="-857160" algn="just">
              <a:buClr>
                <a:srgbClr val="000000"/>
              </a:buClr>
              <a:buFont typeface="Arial"/>
              <a:buChar char="•"/>
              <a:tabLst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Amount of money invol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2390760" indent="-857160" algn="just">
              <a:buClr>
                <a:srgbClr val="000000"/>
              </a:buClr>
              <a:buFont typeface="Arial"/>
              <a:buChar char="•"/>
              <a:tabLst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Delay in going through cour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2390760" indent="-857160" algn="just">
              <a:buClr>
                <a:srgbClr val="000000"/>
              </a:buClr>
              <a:buFont typeface="Arial"/>
              <a:buChar char="•"/>
              <a:tabLst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whether the contract provides for the award to be final and bi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509A63C3-1687-43E5-BBD0-F7C8C88058B2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520560" y="425520"/>
            <a:ext cx="10688760" cy="63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Supervi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hat is a question of law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uckland City Council v Wotherspo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[1990] 1 NZLR 76 (HC) identified three categories of issu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 conventional legal question on unchallenged fact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 positive factual finding unsupported by any evidence; 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 failure to draw the only reasonable inference from primary fa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atter two were excluded after 2007 amendments – only a conventional legal questions is the basis for an appe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Just because not appealable does not mean that arbitrators have free reign to make unsupported factual findings – breach of natural justice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xed questions of law and fact –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dwards (Inspector of Taxes) v Bairstow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[1956] AC 14 (HL) approa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96E9458-2886-4FE3-97E7-51651AAE809B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520560" y="425520"/>
            <a:ext cx="1068876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Supervi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hat can the court do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t ca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Vary the a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t the award as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mit the a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7D17827-C1A9-44D7-B681-58A81E7E8F8D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520560" y="425520"/>
            <a:ext cx="10688760" cy="704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Supervi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pplications to set as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ome but limited connection with appe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ree month timeframe - </a:t>
            </a: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Todd Petroleum Mining Co v Shell (Petroleum Mining) Co 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[2015] 2 NZLR 1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 “narrow exception” to arbitral fin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rticle 34 of Schedule 1 – applies to New Zealand awards not international 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Grounds for setting asi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capacity of a par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valid arbitration agre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ack of notice of denial of opportunity to present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xcess of jurisdiction –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odd v Shell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HC Wellingtion, CIV-2008-485-2816, 17 July 200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efect in composition of tribunal or proced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B70DD9D6-13B8-4E0C-BFF1-E7698DB524A5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"/>
          <p:cNvSpPr/>
          <p:nvPr/>
        </p:nvSpPr>
        <p:spPr>
          <a:xfrm>
            <a:off x="520560" y="425520"/>
            <a:ext cx="10688760" cy="70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Supervi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pplications to set as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Grounds for setting asi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on-arbitrability of disp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flict with public policy – including where the award induced or affected by fraud or corruption or a breach of the rules of natural justice occurr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maltal Corp Ltd v Maruha (NZ) Corp Lt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[2004] 2 NZLR 6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idois v Lea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[2015] 3 NZLR 47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ural justice requirements are set out in the Act – eg articles 12, 18 and 24 of Schedul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urt retains a residual discretion not to set aside -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odd v Shell ; </a:t>
            </a: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Kyburn Investments Ltd v Beca Corporate Holdings Ltd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 [2015] 3 NZLR 64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BAA485A-EA82-4DCC-9F5D-626A5D3C3973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520560" y="425520"/>
            <a:ext cx="10688760" cy="63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Supervi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fusal or recognition or enfor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chedule 36 of Schedule 1 – it sets out an exhaustive list of grounds that must be established to resist enforce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capacity of a par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valid arbitration agre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ack of notice of denial of opportunity to present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 award relates to a dispute not falling within the terms of the submission or contains decisions on matters beyond the scope of the subm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mposition of tribunal or procedure not in accordance with the agreement of the parties or not in accordance with the law of the country where its taking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ward not yet binding or has been set aside or suspended by a court of the country in which, or under the law of which, the award was ma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Dispute not arbit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ntrary to public policy –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Hi-Gene Ltd v Swisher Hygiene Franchise Corp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[2010] NZCA 3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207EB4E9-AEB8-4080-9608-AED522F42240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520560" y="425520"/>
            <a:ext cx="10688760" cy="53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Supervi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fusal or recognition or enfor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chedule 36 of Schedule 1 – it sets out an exhaustive list of grounds that must be established to resist enforcemen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capacity of a par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Invalid arbitration agre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Lack of notice of denial of opportunity to present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 award relates to a dispute not falling within the terms of the submission or contains decisions on matters beyond the scope of the subm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omposition of tribunal or procedure not in accordance with the agreement of the parties or not in accordance with the law of the country where its taking pl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Award not yet binding or has been set aside or suspended by a court of the country in which, or under the law of which, the award was ma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FDBA43C1-670F-4C8C-97D2-4D9B5A40706F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520560" y="425520"/>
            <a:ext cx="1068876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hen conducting arbitrations consid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whether court support needed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 grounds in Articles 34 and 3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390760" indent="-857160" algn="just">
              <a:buClr>
                <a:srgbClr val="000000"/>
              </a:buClr>
              <a:buFont typeface="Arial"/>
              <a:buChar char="•"/>
              <a:tabLst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efer back to arbitration agreement and agreed proced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390760" indent="-857160" algn="just">
              <a:buClr>
                <a:srgbClr val="000000"/>
              </a:buClr>
              <a:buFont typeface="Arial"/>
              <a:buChar char="•"/>
              <a:tabLst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e fair and give parties the chance to be hea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2390760" indent="-857160" algn="just">
              <a:buClr>
                <a:srgbClr val="000000"/>
              </a:buClr>
              <a:buFont typeface="Arial"/>
              <a:buChar char="•"/>
              <a:tabLst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Be thorough in addressing issues rais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NZ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635FB7D3-8D9A-4102-BAA1-FF26F0818C70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3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520560" y="425520"/>
            <a:ext cx="1068876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enc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do you need to arbitr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What issues do you need to be aware o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bitration and other ADR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im Mea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ergency arbitr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E5E1194-4386-4D05-8A58-DB6E408A2DAE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520560" y="576360"/>
            <a:ext cx="10644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Cont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286FCD12-22C6-4611-B32F-85A74855D3E0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4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520560" y="425520"/>
            <a:ext cx="10688760" cy="71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mmencem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-conditions to arbit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 request to arbit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 arbitration agre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 disp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tractual pre-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nstitutional pre-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 request to arbit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rticle 21 of Schedule 1 – date of request is the date of commen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20BF79D8-D2DE-4049-AD96-CAC42FEA03FF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5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520560" y="425520"/>
            <a:ext cx="10688760" cy="89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mmencem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bitration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Must the agreement be in writing? Article 7(1) of Schedule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New York Conven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What if the language is permissive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On Line International Ltd v On Line Lt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(HC Christchurch CP2/00, 11 April 200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What if the clause is unilateral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NB Three Shipping Ltd v Harebell Shipping Lt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[2004] EWHC 2001 (Com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NZ" sz="2200" spc="-1" strike="noStrike">
                <a:solidFill>
                  <a:srgbClr val="000000"/>
                </a:solidFill>
                <a:latin typeface="Calibri"/>
                <a:ea typeface="Arial"/>
              </a:rPr>
              <a:t>Hermes One Ltd v Everbbread Holdings Ltd </a:t>
            </a:r>
            <a:r>
              <a:rPr b="0" lang="en-NZ" sz="2200" spc="-1" strike="noStrike">
                <a:solidFill>
                  <a:srgbClr val="000000"/>
                </a:solidFill>
                <a:latin typeface="Calibri"/>
                <a:ea typeface="Arial"/>
              </a:rPr>
              <a:t>[2016] UKPC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Differences in arbitration agre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Arbitration clauses vs submission agre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Arial"/>
              </a:rPr>
              <a:t>Be wary of contradiction – eg arbitration clauses and exclusive jurisdiction clau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B25ED5E7-5F48-4FF4-8D6A-6E1C54259955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6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520560" y="425520"/>
            <a:ext cx="10688760" cy="82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mmencem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rbitration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What if the contract containing the arbitration clause is said to be inval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rticle 16(1) of Schedul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Fiona Trust &amp; Holding Corp v Privalov 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[2007] 4 All ER 95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separability” 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or </a:t>
            </a: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“autonomy of the arbitration claus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Savvy Vineyards 4334 Ltd v Weta Estate Ltd 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[2017] NZHC 11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lnSpc>
                <a:spcPct val="100000"/>
              </a:lnSpc>
              <a:tabLst>
                <a:tab algn="l" pos="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an the arbitration agreement itself be inval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Carr v Gallaway Cook Allan 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[2014] NZSC 7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E0E2855-B151-4036-B74E-8DBD8D30BA48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520560" y="425520"/>
            <a:ext cx="10688760" cy="89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ommencem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isp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ogical pre-cond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 broad approach taken to the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ethanex Motunui Ltd v Spellma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[2004] 1 NZLR 95 (HC), [2004] 3 NZLR 454 (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tabLst>
                <a:tab algn="l" pos="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here will be a ‘dispute’ where two or more individuals expres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and maintain, in relation to each other, conflicting views or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ositions, the resolution of which will or may be of legal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sequence, or where there are questions which may give rise to a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dispute if left unresolv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Fiona Trust &amp; Holding Corp v Privalov 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[2007] 4 All ER 95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C987EB89-B0F8-4C3B-AA3D-906337A78EC3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520560" y="425520"/>
            <a:ext cx="1068876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Commencem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ntractual pre-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ave the parties met the contractual pre-condition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ulti-tiered cla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2390760" indent="-857160" algn="just">
              <a:buClr>
                <a:srgbClr val="000000"/>
              </a:buClr>
              <a:buFont typeface="Arial"/>
              <a:buChar char="•"/>
              <a:tabLst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rnell Corrao Associates Inc v Sensation Yachts Lt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2000) 15 PRNZ 608 (H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2390760" indent="-857160" algn="just">
              <a:buClr>
                <a:srgbClr val="000000"/>
              </a:buClr>
              <a:buFont typeface="Arial"/>
              <a:buChar char="•"/>
              <a:tabLst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Heli-flight New Zealand Ltd v Massey Universit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HC Auckland, CIV-2005-404-4855, 30 November 200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Time lim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2390760" indent="-857160" algn="just">
              <a:buClr>
                <a:srgbClr val="000000"/>
              </a:buClr>
              <a:buFont typeface="Arial"/>
              <a:buChar char="•"/>
              <a:tabLst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lause 7 of Schedul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2390760" indent="-857160" algn="just">
              <a:buClr>
                <a:srgbClr val="000000"/>
              </a:buClr>
              <a:buFont typeface="Arial"/>
              <a:buChar char="•"/>
              <a:tabLst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dill &amp; Smeed Ltd v Ebert Constru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(HC Auckland, CIV-2006-404-882, 9 August 200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If arbitrating pursuant to institutional rules check for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2390760" indent="-857160" algn="just">
              <a:buClr>
                <a:srgbClr val="000000"/>
              </a:buClr>
              <a:buFont typeface="Arial"/>
              <a:buChar char="•"/>
              <a:tabLst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369960" y="6337080"/>
            <a:ext cx="800892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4DC7173A-EF65-4417-B2E0-2B021C421099}" type="slidenum">
              <a:rPr b="0" lang="en-US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4"/>
          <p:cNvSpPr/>
          <p:nvPr/>
        </p:nvSpPr>
        <p:spPr>
          <a:xfrm>
            <a:off x="520560" y="425520"/>
            <a:ext cx="10688760" cy="79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Arial"/>
              </a:rPr>
              <a:t>Relationship with other ADR process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e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Be careful not to get dragged in - 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Acorn Farms Limited v Schnuriger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 [2003] 3 NZLR 12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Construction Contracts Act 20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Willis Trust Company Ltd v Green 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(HC Auckland, CIV-2006-404-809, 25 May 200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368360" indent="-857160" algn="just">
              <a:buClr>
                <a:srgbClr val="000000"/>
              </a:buClr>
              <a:buFont typeface="Arial"/>
              <a:buChar char="•"/>
              <a:tabLst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Concurrent procee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Danone Asia Pacific Holdings Pte Ltd v Fonterra Co-operative Group Ltd </a:t>
            </a:r>
            <a:r>
              <a:rPr b="0" lang="en-NZ" sz="2400" spc="-1" strike="noStrike">
                <a:solidFill>
                  <a:srgbClr val="000000"/>
                </a:solidFill>
                <a:latin typeface="Calibri"/>
                <a:ea typeface="Arial"/>
              </a:rPr>
              <a:t>[2014] NZCA 536</a:t>
            </a:r>
            <a:br>
              <a:rPr sz="2400"/>
            </a:br>
            <a:r>
              <a:rPr b="0" lang="en-NZ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879560" indent="-857160" algn="just">
              <a:buClr>
                <a:srgbClr val="000000"/>
              </a:buClr>
              <a:buFont typeface="Arial"/>
              <a:buChar char="•"/>
              <a:tabLst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  <a:tab algn="l" pos="1073484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511200"/>
                <a:tab algn="l" pos="1022400"/>
                <a:tab algn="l" pos="1533600"/>
                <a:tab algn="l" pos="2044800"/>
                <a:tab algn="l" pos="2556000"/>
                <a:tab algn="l" pos="3067200"/>
                <a:tab algn="l" pos="3578400"/>
                <a:tab algn="l" pos="4089240"/>
                <a:tab algn="l" pos="4600440"/>
                <a:tab algn="l" pos="5111640"/>
                <a:tab algn="l" pos="5622840"/>
                <a:tab algn="l" pos="6134040"/>
                <a:tab algn="l" pos="6645240"/>
                <a:tab algn="l" pos="7156440"/>
                <a:tab algn="l" pos="7667640"/>
                <a:tab algn="l" pos="8178840"/>
                <a:tab algn="l" pos="8690040"/>
                <a:tab algn="l" pos="9201240"/>
                <a:tab algn="l" pos="9712440"/>
                <a:tab algn="l" pos="1022364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0T01:32:48Z</dcterms:created>
  <dc:creator>Zeus</dc:creator>
  <dc:description/>
  <dc:language>en-US</dc:language>
  <cp:lastModifiedBy>Lorna Mordaunt</cp:lastModifiedBy>
  <cp:lastPrinted>2017-11-15T00:47:44Z</cp:lastPrinted>
  <dcterms:modified xsi:type="dcterms:W3CDTF">2017-11-15T00:50:52Z</dcterms:modified>
  <cp:revision>42</cp:revision>
  <dc:subject/>
  <dc:title>PowerPoint Presentation</dc:title>
</cp:coreProperties>
</file>